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20.png" ContentType="image/png"/>
  <Override PartName="/ppt/media/image17.png" ContentType="image/png"/>
  <Override PartName="/ppt/media/image16.wmf" ContentType="image/x-wmf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28.jpeg" ContentType="image/jpeg"/>
  <Override PartName="/ppt/media/image7.jpeg" ContentType="image/jpeg"/>
  <Override PartName="/ppt/media/image33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12.wmf" ContentType="image/x-wmf"/>
  <Override PartName="/ppt/media/image37.png" ContentType="image/png"/>
  <Override PartName="/ppt/media/image38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9.jpeg" ContentType="image/jpeg"/>
  <Override PartName="/ppt/media/image11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AA54-BE24-4D39-84CA-45EC9AB90780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6F70-8C90-4DB0-A641-AAA843507CB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4CD-0025-45AA-8FA6-42B00BE1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39A-7BE4-4E05-913A-91D2008E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D45-B6D9-4CE5-ADE3-865AAD25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387-FBC5-4399-A294-EA1C043A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46F2-61FB-4AFC-8560-5282DE8F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042B-71ED-40C8-A9D8-BE7A9A85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56D1-1B9B-49EB-AFC2-2CBC17F1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3F54-40B1-4CA9-AEAD-CAC33899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6263-3409-4930-A5F8-4E602F06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E434-4496-4371-8E81-3B84F4E3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FA48-5A55-4A0B-A41B-E6664E6E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D46-C7D4-46AC-9FC9-06D20524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9B62-46AF-4BDC-AB4F-A5D783D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E1BD-9F8A-481A-96AC-3FC5E39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76C0-CF84-4DCC-8B6B-50FB46BA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0DD6-08BE-42B6-80E6-526CF3DD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83E2-407C-4F84-AFC3-7F54B25C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673B2-FF3F-409D-803E-AA7D1574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C3AEC-960D-4F8E-A400-49E89F81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B7038-5CAD-4698-AA94-83ABA7BE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08B0A-47AD-4C84-94FD-02DEA2A5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37C6A-B5FD-4C74-AD70-3C97897E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ED1-50E4-4B8D-A6F4-6642E4AD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D0A23-D901-48C0-97B3-2C797317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C0D99-A835-4D9D-B9FB-3EEB0608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8A004-CBBA-4AA1-A922-A85BFBCD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CDA27-D5ED-4210-B20E-189A679B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DFF90-5DA8-46A6-8878-9067EE83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9BED8-4736-4ACB-AFCA-D3B5E1FE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3A5B6-1681-4203-A6D1-ECCBC269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B958-AFD0-499E-BE7E-F199E9F0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663B-CC8D-4913-978A-BC685F17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C2F0-C32C-4169-9036-436AEF2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040-98FD-4427-B6CD-7AF003D8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31F1F-ED88-4E07-9866-35679FD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402C4-BAD2-4D39-8290-0A951135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D04EB-8952-4446-855E-78C7EABA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C238-8F97-4E47-A988-A86E4C95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9EED-6259-4347-B255-70EF2DB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F561E-0C18-4932-893F-13C013E7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629A1-849E-407C-A393-612B7077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90258-0B75-4502-9030-C607C851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802CD-6518-45EE-8231-C370727D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416AE-D61F-4995-89FD-0C6EED76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45F-DC95-4B1F-ADB8-62C50BA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546D5-6A65-43CA-9A3D-DD2B83A9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78C3B-0EBD-472F-BC7E-B502A921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C84ED-9801-4649-B103-3AFAF394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224F0-202B-465B-B6A2-DC6622A3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97861-89EF-4693-B919-9B505653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69535-3AC7-42EC-B378-2A9A41D0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45BBA-D9D4-4B9C-9E71-1AA1C19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B8BA0-E494-47D2-8ACE-3343A99E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361DA-1C54-4936-BD9A-AB112799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6283F-3A92-4570-94BF-A507F63F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484-BEAD-4A0A-A9B3-C02FC169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22FA4-C261-4826-8836-7F2051C8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2667B-0E33-4827-B42C-EE504DA7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E76D2-7F83-41E9-9D1E-F39F1BFE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A5729-A912-4AF7-803E-A0A08660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B9532-76F6-48F0-A01D-858464CD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5E296-76BB-4273-AD7F-3C4E530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9085E-F152-49B5-8E90-3ED824F4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C6223-4807-481C-9F67-DD4F3CBD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BED24-5A2E-4C93-B262-6E29FBB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19D9E-5E8F-48D7-AD4F-4ACAD48B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3E8-F1EF-4B12-AAF7-DF3FFD78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ECA2D-232D-4DB2-99CF-5976E4D2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65E99-A2AE-49F4-8577-F0D37869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48035-D5A3-4010-9B4C-AA567A2E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ADD76-6BB3-4DEF-AC19-13F014CE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0D322-0B53-44B7-9442-7E51AA9E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D9556-E2D4-4A3B-A46B-8A748372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C408E-1E5A-4D45-BA75-59BACE6B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C361A-4F0C-458D-90BF-E52BD6A7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17CA6-60A1-4970-81C0-EE2C4F4F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CA5DA-7E36-4272-8E57-1610B6B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209-AB96-4389-A132-FC9A9C8C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6EB68-2CDE-4ED9-8BEA-E546348E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E22AC-CD57-4F13-AFC8-7242A59F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EDBCA-C911-4603-BA00-D101B32A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FA474-BAB1-47D7-9F61-4C14302C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8C6B5-FB58-4396-A055-D077CEAA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8DD-045B-4BF9-BCD2-18DBADFC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FE2F-FAA3-4013-996B-E2C0A8987A1C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551E-1C42-4D65-B660-10D93C26060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C5E0-E309-4669-B940-D15D13007B5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ECD9-53E0-4CF7-80AB-1F938CC63E7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5A90-098C-471F-A8E0-886B57ABA58C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C97E-847B-476F-89B4-6A1664ED190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2E9C-9DEF-4D8C-93DC-11424265DB15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49C1-7FF7-476D-9187-894E7EF9937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B553-8B7F-451A-9602-0D67ECC7450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7EB3-F375-4F83-A223-B4DE24A0D37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1CF7-01B1-4606-8BC2-BA7FEFEE92FB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CE39-30C1-4A28-B250-F92324BD872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5FDF-914B-4D77-9FDA-3A15811E7B1B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5FB2-F691-449A-AD41-5A573C97C17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medscape.com/features/slideshow/vision-loss-201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diologyassistant.nl/data/bin/a51910e08181d7_15-MS-typisch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discoverymedicine.com/Timothy-W-West/files/2013/10/discovery_medicine_no_88_timothy_w_west_figure_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ASE DISCUSSION 1: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EPIDEMIOLOGY &amp; CLINICAL FEATUR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Suhailah/Dr. Shelina/Dr. Saiful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Darisah/Dr. Shant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E169-45A2-499C-B9FF-C62578F04C1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investigations are required to support a diagnosis of ON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2BE0-14EF-4283-A548-42F3FB3AE2B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Blood investig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MRI orbit, brain &amp; whole spine with gadoliniu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SF: Biochemistry, oligoclonal bands (OCB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Visual evoked potentials (VEPs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- prolonged P100 latencies &amp;/reduced amplitudes of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waveforms in 65% patients with 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Optical Coherence Tomography (OCT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0C3B-349B-48E7-9AF9-D6AA49EB6A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RI ORBI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slide_image3" descr="http://img.medscape.com/pi/features/slideshow-slide/vision-loss-2012/fig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21932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990720" y="5638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ontrast-enhanced T1-weighted MRI shows abnormal enhancement of the left optic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A816-5D42-4A38-91F2-E30A8DD2A6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RI BRAIN &amp; SPIN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n51910dfff35c3" descr="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95560" y="1295280"/>
            <a:ext cx="4457520" cy="515628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AFAB-C07E-43C2-9C86-9B26531EBB0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CSF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95880" cy="5486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3EAC-CFE5-459D-99DE-BD5CBA06D55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VEP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Content Placeholder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403848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808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Century Schoolbook"/>
              </a:rPr>
              <a:t>The RIGHT eye peak latencies are in normal range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Century Schoolbook"/>
              </a:rPr>
              <a:t>The LEFT eye peak latencies are significantly dela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7D6-5E8F-4470-8B7F-E26E1F2EEC8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OC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Content Placeholder 6" descr="http://4.bp.blogspot.com/_qmud-Nv3UXg/S8D163aC3MI/AAAAAAAAAAc/8nxDZ5gJHyM/s1600/OCT.jpg"/>
          <p:cNvPicPr/>
          <p:nvPr/>
        </p:nvPicPr>
        <p:blipFill>
          <a:blip r:embed="rId1"/>
          <a:stretch/>
        </p:blipFill>
        <p:spPr>
          <a:xfrm>
            <a:off x="947880" y="1254240"/>
            <a:ext cx="720540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990720" y="54450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NFLT of &lt; 70µm predicts worse VA outcome at 3 months after ON (p=0.019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88E0-D6EC-4229-9679-CFD19FAF36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n further history, patient had a history of numbness of both lower limbs, associated with difficulty in passing urine 2 years ag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went to see a GP who treated her for presumed urinary tract infec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er symptoms resolved within 2 week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4. What are your differential diagnose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C2E3-91FA-4DD5-AA6F-5DAD4CA363E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4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ransverse myelitis (TM) with sphincteric involve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diopathic Inflammatory Demyelinating Disease (IID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Multiple scler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Neuromyelitis optica spectrum disorder (NMOS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3F7B-9AD6-4D12-8C46-F1418408C82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5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investigations to support your diagnosis of TM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C807-DD3B-411B-8D78-5AB2494511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143000"/>
            <a:ext cx="80773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2 year-old Malay lad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st semester in electrical engineering cour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 days h/o painful blurring of vision of left ey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fficult to differentiate the colours of electrical wi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ent to see a general practitioner (GP) &amp; referred to an ophthalmologi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. What are the features in this patient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ich are suggestive of optic neuriti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(ON)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4FD0-5265-4E5B-A7C9-6DC1456FD9F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5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MRI of the spinal cor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Evoked potential study: Somatosensory evoked potentials (SSE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BF76-5D24-4F7E-93DF-A005C9CB914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6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clinical features suggestive of TM diagnosi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87E3-7A86-4DA8-A5AE-9CDBA6E0978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6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cute complete TM (ACTM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6120" indent="-2732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lammatory process of the spinal cord causing a symmetrical &amp; moderate to severe loss of function distal to the level of lesion, usually with sphincteric involv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6120" indent="-27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cute partial TM (APTM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6120" indent="-2732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mplete or patchy involvement of at least 1 spinal segment with mild to moderate weakness, asymmetrical or dissociated sensory symptoms, &amp; occasionally bladder involv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DB73-88FE-457B-9B78-F5C7DE31040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RI IMAGES ACTM VS APTM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9" name="Object 35" descr=""/>
          <p:cNvPicPr/>
          <p:nvPr/>
        </p:nvPicPr>
        <p:blipFill>
          <a:blip r:embed="rId1"/>
          <a:stretch/>
        </p:blipFill>
        <p:spPr>
          <a:xfrm>
            <a:off x="457200" y="3308400"/>
            <a:ext cx="4040280" cy="2754360"/>
          </a:xfrm>
          <a:prstGeom prst="rect">
            <a:avLst/>
          </a:prstGeom>
          <a:ln w="0">
            <a:noFill/>
          </a:ln>
        </p:spPr>
      </p:pic>
      <p:pic>
        <p:nvPicPr>
          <p:cNvPr id="430" name="Content Placeholder 7" descr="Figure 1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666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57280" y="1014480"/>
            <a:ext cx="3839400" cy="1856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agittal T2 (A) image demostrates lesion within the spinal cord (arrow). The same lesion as seen on the axial T2 (B) image, occupying only part of the spinal cor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756680" y="1026000"/>
            <a:ext cx="3970800" cy="206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agittal (A) &amp; axial (B) T2-weighted images in a patient with CDMS. Note that the lesions are &lt;2 cord segments, ovoid &amp; peripherally located [seen most clearly on the axial image labeled (B)]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E50E-F302-4768-B12D-CF6DD70DC79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entury Schoolbook"/>
              </a:rPr>
              <a:t>DIFFERENTIAL DIAGNOSIS UPON PRESENTATION WITH DEMYELINATING SPINAL CORD SYNDROME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Picture 2" descr="C:\Users\DELL\Pictures\TM flow chart.PNG"/>
          <p:cNvPicPr/>
          <p:nvPr/>
        </p:nvPicPr>
        <p:blipFill>
          <a:blip r:embed="rId1"/>
          <a:stretch/>
        </p:blipFill>
        <p:spPr>
          <a:xfrm>
            <a:off x="284040" y="1295280"/>
            <a:ext cx="8250480" cy="541044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E704-387E-4D46-A3A1-87FFC3F989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CASE DISCUSSION 2: 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DIFFERENTIALS &amp; DIAGNOSTIC CRITERI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Shanti/Dr. Ooi Phaik Yee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Kartikasalwah/Dr. Norzain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6412-E12E-4CD6-978E-1484EF7D6EC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ISTORY (CONT.) …. CURRENT EPISODE OF ON, PAST HISTORY OF POSSIBLE MYELITIS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oung female, in her 30’s, no F/H similar episod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rst episod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typical of 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urther histo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prior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istorical evidenc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a possible myelitis, MRI spine was not done at that ti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5320-F1EA-410A-98D4-38C895E2107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ye examin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ft eye RAPD, reduced VA, impaired colour vision with a hyperaemic dis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tor &amp; sensory examin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akness in right lower limbs with power of 4+/5, brisk reflex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d tone &amp; bilateral upgoing plant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d vibration sense till the hips bilateral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1AD2-899A-4EAE-9197-F224C574C55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findings suggest the presence of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urrent left eye O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prior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istorical evidenc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a partial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rroborated by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bjective sig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n neurological exami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vidence of dissemination in time &amp; space (DIT, DI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ook at all possible differential diagnosis of ON &amp; TM occurring sequentiall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i.e. differential diagnoses of neurological conditions with DIT &amp; DI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7. What are the differential diagnoses i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this cas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2033-391A-42DB-A7DE-F674096B03B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IDD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e scler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MOS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ute Disseminated Encephalomyelitis (ADE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ther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sculitis - SLE, Sjogre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scular causes - atheroscler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nulomatous disorder - sarcoid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12 deficien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ymph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926E-C65D-4952-8F9F-7CFD723CDA8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inful blurring of vi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lour vision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2E01-3D1B-4019-BDEF-1240F37E480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331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h/o encephalopathy, antecedent fever or immunisation, &amp; the temporal history is not suggestive of AD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h/o joint pains, alopecia, oral ulcers, dry eyes or mouth to suggest CTD (e.g. SLE/Sjogren’s syndrom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h/o DM/HPT/dyslipidaemia to suggest atherosclerosis with optic nerve &amp; cord involvement as the recovery would be poor, older age grou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F293-9387-4F2E-BEA3-44C36BFB690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33160" y="14778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MOSD is possible - however eye recovery is rather good but still needs TR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arcoidosis is possible - however no facial nerve/uveitis at onset; chest x-ray would be useful to look for hilar lymphadenopathy, serum AC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C1D-D08C-4392-83DA-6366C7FE5CD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ontent Placeholder 2"/>
          <p:cNvSpPr/>
          <p:nvPr/>
        </p:nvSpPr>
        <p:spPr>
          <a:xfrm>
            <a:off x="685800" y="4830840"/>
            <a:ext cx="7543800" cy="144756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 typical features of MS from history, clinical examination, CSF, neuroimaging &amp; 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1447920" y="579600"/>
            <a:ext cx="6095880" cy="6161040"/>
          </a:xfrm>
          <a:prstGeom prst="rect">
            <a:avLst/>
          </a:prstGeom>
          <a:ln w="0">
            <a:noFill/>
          </a:ln>
        </p:spPr>
      </p:pic>
      <p:sp>
        <p:nvSpPr>
          <p:cNvPr id="46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9C8A-144A-4C87-B9B2-77AEB238B3C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NEED TRO ALL OTHER DIFFERENTIAL DIAGNOSES &amp; BE AWARE OF RED FLAGS FOR M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365200"/>
            <a:ext cx="792468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boratory/paraclin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uroimag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1EC6-C39E-4B55-9DCE-51855B1B4A0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CLINICAL RED FLAG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838080" y="1249200"/>
            <a:ext cx="6010560" cy="17528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68" name="Picture 3" descr=""/>
          <p:cNvPicPr/>
          <p:nvPr/>
        </p:nvPicPr>
        <p:blipFill>
          <a:blip r:embed="rId2"/>
          <a:stretch/>
        </p:blipFill>
        <p:spPr>
          <a:xfrm>
            <a:off x="2819520" y="3154320"/>
            <a:ext cx="5902200" cy="3200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46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5084-E9B0-4FE8-9AA7-1E1965F6408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LABORATORY/PARACLINICAL RED FLAG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639720" y="2362320"/>
            <a:ext cx="7736040" cy="266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EEAE-AD24-484E-9B80-EF4208CC6E3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NEUROIMAGING RED FLAG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263000" cy="388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7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5A7D-5029-4798-95F8-D2D7F8C0898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"/>
          <p:cNvPicPr/>
          <p:nvPr/>
        </p:nvPicPr>
        <p:blipFill>
          <a:blip r:embed="rId1"/>
          <a:srcRect l="3257" t="2222" r="10795" b="0"/>
          <a:stretch/>
        </p:blipFill>
        <p:spPr>
          <a:xfrm>
            <a:off x="304920" y="158760"/>
            <a:ext cx="6478560" cy="6546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77" name="TextBox 3"/>
          <p:cNvSpPr/>
          <p:nvPr/>
        </p:nvSpPr>
        <p:spPr>
          <a:xfrm>
            <a:off x="6934320" y="2565360"/>
            <a:ext cx="182880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Differences between MS &amp; N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765-5101-43DC-9724-2D4564C899F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8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68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es this patient fulfill the clinical criteria for CDM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4F4E-03F5-4D92-AE61-37E64DE7206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8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6094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8117-F693-4BD5-B46D-C37E3183A8A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216000" y="1143000"/>
            <a:ext cx="8470800" cy="40384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2"/>
          <a:stretch/>
        </p:blipFill>
        <p:spPr>
          <a:xfrm>
            <a:off x="1166760" y="5029200"/>
            <a:ext cx="6453360" cy="175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other clinical signs of ON you would look for in this pati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F51D-D056-41FC-B73F-000E38E0E5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iagnostic criteria….  McDonald 2010 revised criter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ent accepted diagnostic criteria for MS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rporat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499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nical finding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499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araclinical investigations (laboratory &amp; neuroimaging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72D5-AD9C-43F5-9950-E53DE7394BD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 criteria are fulfilled, typical MRI findings, “No better explanation from history”, &amp; investigati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iagnosis is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ultiple scler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EE43-615C-4051-8491-64594BA063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)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RI has been d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043B-19B0-4416-A70C-583C9443A2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RI T2 AX BRAIN IMAG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298E-5FEF-4BCC-A70F-E092230DB9C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20380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8DBD-F398-4C26-91D2-48D5260F64B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666880" y="165240"/>
            <a:ext cx="376092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CASE DISCUSSION 3: 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PHARMACOLOGICAL MANAGEMEN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P Dr. Tan Hui Jan/Dr. Sufian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Joyce/Mr. Thian Soon Ye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BE42-EC84-40E2-804C-0A866E666F2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14778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neurologist has diagnosed her with CDMS. MRI brain &amp; spine findings also fulfill the McDonald imaging criteria for M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9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at are the treatments for acute relapse in M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at are the indications for starting first-line disease modifying treatment (DMT) in CDM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759C-6E03-4A1D-9A7D-7ACDBE91B62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17521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cute relap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AD77-8AEC-4855-9E41-D68A2BE93BE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210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75572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cute 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IV methylprednisolone 250 mg 6-hourly for 3 days followed by oral prednisolone at 1 mg/kg for 11 days with a fast tap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B871-DF32-44F2-8A03-55A40CCF06A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75572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ndications for starting first-line DMT in CDM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2 clinically significant relapses in previous 2 years (active MS)*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able to walk ≥10 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not pregnant or attempting concep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aged &gt;18 ye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no contraindic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F0B0-6CFE-4E98-8637-8A0C187D104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Reduced visual acuity (V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olour vision lo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Presence of Relative Afferent Pupillary Defect (RAP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Visual field (VF) loss (central scotom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Reduced contrast sensitiv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Optic disc (OD) swell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ontralateral OD pallor or swell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9290-2D52-4199-9BE4-8BCA771C863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7064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im of DM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Reduce relapse 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Delay disability progres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Reduce radiologically active or new brain lesions on M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entury Schoolbook"/>
              </a:rPr>
              <a:t>treatment selection should be individualised based on accessibility, availability, efficacy, tolerability &amp; safety of DMTs, prognostic factors, co-morbidities &amp; patient’s prefere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F3E1-696B-4A23-9D6F-8B7E20C23B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itle 1"/>
          <p:cNvSpPr/>
          <p:nvPr/>
        </p:nvSpPr>
        <p:spPr>
          <a:xfrm>
            <a:off x="457200" y="3808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7949-8EAE-45FA-ACCD-DC76DF2384F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415800" y="2971800"/>
            <a:ext cx="8118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6840" y="1752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DMTs in treatment of RR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4AC4-7ADB-44F2-BBCB-618EEF41B3A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tle 1"/>
          <p:cNvSpPr/>
          <p:nvPr/>
        </p:nvSpPr>
        <p:spPr>
          <a:xfrm>
            <a:off x="457200" y="42696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99880" y="2743200"/>
            <a:ext cx="8234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fter starting DMT, the patient is wel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has completed her engineering cours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cently, she’s married &amp; </a:t>
            </a: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planning to get pregnant; thus she’s advised to stop the DMT 3 months prior to concep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is currently pregnant with her first child &amp; is in her first trimester. While pregnant, she develops a spinal cord relapse with weakness of lower limb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0. How would you treat this acut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relapse in pregnancy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8ACA-FA6B-4B1C-93A5-58FA1944C2F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V immunoglobulin - treatment of choice in pregnanc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here is lack of evidence on the safety of steroids in pregnant MS patient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IV methylprednisolone is associated with an increased risk of cleft lips &amp; palate in the first trimester of pregnanc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V methylprednisolone may be offered to MS patients with acute relapses in second &amp; third trimester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B88-7297-4044-AB7D-5D32DDEE3B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recovers fully &amp; has an uneventful deliver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would like to breastfeed her bab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1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How would you advise her on breastfeeding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hen would you re-initiate the DM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59E7-0B04-40BE-92C5-C095BFFEEAF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1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DMT is not advisable during lact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DMT can be started immediately postpartum as long as the patient is not breast-feed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3218-38BF-4F13-AC37-CDA94ECBE4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68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She is re-initated with DMT at 6 weeks post-partu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6 months later, she presents to the hospital with a complaint of right blurring of vision. She recovers fully after high dose IV methylprednisolon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entury Schoolbook"/>
              </a:rPr>
              <a:t>Unfortunately, she develops another relapse with unsteady gait &amp; diplopia 3 months later. She shows poor response to IV methylprednisolone the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Q12. What is your next step of manageme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DA4A-A289-4B59-8975-7A62C7E6D6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1F09-EABE-4B12-B6F2-8501703A92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250920" y="2438280"/>
            <a:ext cx="8310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has partial response to PE &amp; is left with residual weakness. She is currently ambulating with a quadripod (EDSS 4.5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AD99-42F5-4821-BDAD-B94BE23DC8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2. FEATURES OF 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ye pa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esent in &gt;90% of cas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orse on eye movement, resolves within a wee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entral visual los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sually mononuclear, bilateral onset is rare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(0.4%)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Red Flag! NMOS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gress over hours to days, recover within 2 to 4 weeks; 75% recovers by 1 month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Red Flag! Progression beyond 2 weeks → other ddx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ptic neuropath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duced VA between 6/6 to NP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esence of RAP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lour vision lo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F loss (classically central scotom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duced contrast sensi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undoscop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/3 normal OD (retrobulbar neuriti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/3 mild &amp; diffuse OD swell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ptic-nerve head atrophy (disc pallor), occurs after few weeks inspite of VA recover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36684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CB62-E3C6-4986-8F2D-808944586CF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RI OF BRAI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FCEA-E2DE-4F32-8425-C35C34CBCC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3" descr="C:\Users\user\Documents\102APPLE\IMG_1619.JPG"/>
          <p:cNvPicPr/>
          <p:nvPr/>
        </p:nvPicPr>
        <p:blipFill>
          <a:blip r:embed="rId1"/>
          <a:srcRect l="0" t="30004" r="14166" b="18337"/>
          <a:stretch/>
        </p:blipFill>
        <p:spPr>
          <a:xfrm>
            <a:off x="4952880" y="2765520"/>
            <a:ext cx="3200400" cy="2568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C:\Users\user\Documents\102APPLE\IMG_1550.JPG"/>
          <p:cNvPicPr/>
          <p:nvPr/>
        </p:nvPicPr>
        <p:blipFill>
          <a:blip r:embed="rId2"/>
          <a:stretch/>
        </p:blipFill>
        <p:spPr>
          <a:xfrm>
            <a:off x="762120" y="18288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RI OF SPIN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6584-79F2-4A1B-9500-47C51101932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C:\Users\user\Documents\101APPLE\IMG_3007.JPG"/>
          <p:cNvPicPr/>
          <p:nvPr/>
        </p:nvPicPr>
        <p:blipFill>
          <a:blip r:embed="rId1"/>
          <a:srcRect l="33891" t="56878" r="33058" b="14374"/>
          <a:stretch/>
        </p:blipFill>
        <p:spPr>
          <a:xfrm>
            <a:off x="4917960" y="2895480"/>
            <a:ext cx="2168640" cy="2514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C:\Users\user\Documents\102APPLE\IMG_1496.JPG"/>
          <p:cNvPicPr/>
          <p:nvPr/>
        </p:nvPicPr>
        <p:blipFill>
          <a:blip r:embed="rId2"/>
          <a:srcRect l="25509" t="14306" r="38103" b="-341"/>
          <a:stretch/>
        </p:blipFill>
        <p:spPr>
          <a:xfrm>
            <a:off x="1709640" y="1800360"/>
            <a:ext cx="2252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QUESTION 1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is your next step of managem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B1FF-64B6-474D-ABED-4A2E69FF71C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13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75572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s patient has evidence of rapidly evolving M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relapses/yea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sening of EDSS from bas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RI brain shows active dise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76F9-77AE-477D-AA79-5BC4C0A276D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13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55412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ased on the CPG, the treatment should be escalated to second-line therap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8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C1AF-A88C-4EE8-B4B1-5FE990DB79C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457200" y="2811600"/>
            <a:ext cx="7772400" cy="1073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460440" y="4068720"/>
            <a:ext cx="77691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CA6A-61F0-4DE3-B08E-21A3415D7F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2608200" y="299880"/>
            <a:ext cx="5240520" cy="6207120"/>
          </a:xfrm>
          <a:prstGeom prst="rect">
            <a:avLst/>
          </a:prstGeom>
          <a:ln w="0">
            <a:noFill/>
          </a:ln>
        </p:spPr>
      </p:pic>
      <p:sp>
        <p:nvSpPr>
          <p:cNvPr id="573" name="Title 2"/>
          <p:cNvSpPr/>
          <p:nvPr/>
        </p:nvSpPr>
        <p:spPr>
          <a:xfrm>
            <a:off x="457200" y="27468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CASE DISCUSSION 4</a:t>
            </a:r>
            <a:br>
              <a:rPr sz="3200"/>
            </a:b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REHABILITA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Izmi/Dr. Akmal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r. Sheela/Dr. Chee Kok Yo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9D8-1220-44DD-991A-CD6B391C30F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6843600" y="0"/>
            <a:ext cx="22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1832040"/>
            <a:ext cx="792468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e is struggling with her disability &amp; taking care of her baby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ter, she develops depressive featur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4. What is your next step of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managem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0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331E-2987-4D0A-86E9-0922D6288D9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4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70640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Clinical assessment of depressive features: is it an Adjustment Disorder or Major Depressive Disorder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In case of MD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A9B3-1C6D-4F17-9F3A-B75A74FE99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452520" y="4145040"/>
            <a:ext cx="8037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tient  is referred for Rehabilitation Programm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Q15.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Describe the concept of a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rehabilitation programme &amp; it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goal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82D0-6C87-43DD-9426-F5DF063B56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2. FUNDOSCOPY IN 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Content Placeholder 3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67640" cy="457200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A17F-5952-46D5-A511-17A1DA6DE1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5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habilitation progamme involv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multidisciplinary interventions focusing on reducing symptoms &amp; limitations at the level of activity &amp; participation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s is done through interventions which include personal &amp; environmental factors,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achieve the highest possible independence &amp; the best quality of lif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QoL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MS patients within the limits of the diseas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3147-BEC1-4826-B56C-6B086BA948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From assessment, she has bilateral lower limbs paraparesis with proximal muscle strength of 4/5 &amp; distally of 2/5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6. What is the management strategy t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address her impairment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329D-2F81-4E4B-9368-F429E453BA2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6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1A63-8A97-4B4F-924D-A2FFA316AD9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560520" y="1990800"/>
            <a:ext cx="7897680" cy="364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7" name="Rounded Rectangle 4"/>
          <p:cNvSpPr/>
          <p:nvPr/>
        </p:nvSpPr>
        <p:spPr>
          <a:xfrm>
            <a:off x="914400" y="4495680"/>
            <a:ext cx="7543800" cy="9144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560520" y="2438280"/>
            <a:ext cx="7897680" cy="1981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6840" y="175572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Muscle tone shows spasticity of her bilateral plantarflexors with Modified Ashworth Scale Grade 2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his impairs her ambul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7. List the  potential management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strategy for her spasticity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complica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8878-FA7B-46D8-AB62-73A20CA0E92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7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D3AE-EAF6-4BD4-BBE5-F356064802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311040" y="2057400"/>
            <a:ext cx="8309160" cy="2971800"/>
          </a:xfrm>
          <a:prstGeom prst="rect">
            <a:avLst/>
          </a:prstGeom>
          <a:ln w="0">
            <a:noFill/>
          </a:ln>
        </p:spPr>
      </p:pic>
      <p:sp>
        <p:nvSpPr>
          <p:cNvPr id="605" name="Rounded Rectangle 4"/>
          <p:cNvSpPr/>
          <p:nvPr/>
        </p:nvSpPr>
        <p:spPr>
          <a:xfrm>
            <a:off x="228600" y="3657600"/>
            <a:ext cx="8451720" cy="1447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ounded Rectangle 2"/>
          <p:cNvSpPr/>
          <p:nvPr/>
        </p:nvSpPr>
        <p:spPr>
          <a:xfrm>
            <a:off x="311040" y="2590920"/>
            <a:ext cx="8309160" cy="10666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68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She is concern about increasing tiredness at work especially towards the end of the da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8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What is the likely description of her symptom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What should be the advice for her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700F-F64C-4D1D-B9CB-DA51018C203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6840" y="1781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Fatigu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Advice for he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EED3-38B3-42A2-AF7A-4718039F6AB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380880" y="3381480"/>
            <a:ext cx="81918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On screening of MS-related symptoms,  she reports increasing sensation of incomplete void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19. Outline your management pla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04C4-5C10-49C4-9965-5CE8BFF9A5F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3F09-0E74-4402-B1D9-F7289D7D4D4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18148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19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C3F0-AC72-4F4B-90E8-FE43450CA0C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512640" y="1143000"/>
            <a:ext cx="7945560" cy="22366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"/>
          <p:cNvPicPr/>
          <p:nvPr/>
        </p:nvPicPr>
        <p:blipFill>
          <a:blip r:embed="rId2"/>
          <a:stretch/>
        </p:blipFill>
        <p:spPr>
          <a:xfrm>
            <a:off x="525600" y="3352680"/>
            <a:ext cx="7599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2. ATYPICAL FEATURES OF ON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tinal haemorrhag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arkedly swollen optic ner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tinal exud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bsence of p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light perception (NLP) vision at onse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bsence of any visual recovery by 30 day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E196-5DA8-4E1C-A236-52693BF9A89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entury Schoolbook"/>
              </a:rPr>
              <a:t>HISTORY (CONT.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68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Visual assessment shows significantly impaired func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Q20. What is the strategy to minimise h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MY" sz="2800" spc="-1" strike="noStrike">
                <a:solidFill>
                  <a:srgbClr val="ff0000"/>
                </a:solidFill>
                <a:latin typeface="Century Schoolbook"/>
              </a:rPr>
              <a:t>disability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B18D-FD80-4B91-94EA-A6A443AC4E9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entury Schoolbook"/>
              </a:rPr>
              <a:t>ANSWER 20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68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Low vision rehabilitation using low vision aid (magnifiers, prisms, telescopes, electronic devices &amp; large-text reading materia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entury Schoolbook"/>
              </a:rPr>
              <a:t>Training to maximise participation in independent liv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9DBD-80C3-457D-86B4-88D7325D8E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entury Schoolbook"/>
              </a:rPr>
              <a:t>THANK YOU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DFD9-3756-4EEC-AD1D-9EB0D3A3AE1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2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NSWER 2. DIFFERENTIAL DIAGNOSIS OF DEMYELINATING 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7557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ther autoimmune conditions: sarcoidosis, SLE, Sjogren’s syndro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fective: Syphilis, TB, viral infections, cat scratch, Lyme’s disea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uromyelitis optica spectrum disorder (NMOS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pressive optic neuropath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terior ischaemic optic neuropath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eber’s Hereditary Optic Neuropath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4EC1-6211-4B1B-BB7E-AEBF781228F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16:28Z</dcterms:created>
  <dc:creator>kkm</dc:creator>
  <dc:description/>
  <dc:language>en-US</dc:language>
  <cp:lastModifiedBy>DrAmin</cp:lastModifiedBy>
  <dcterms:modified xsi:type="dcterms:W3CDTF">2016-12-03T03:01:52Z</dcterms:modified>
  <cp:revision>140</cp:revision>
  <dc:subject/>
  <dc:title>Case Discussion 1</dc:title>
</cp:coreProperties>
</file>